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9E613-8B50-4380-A506-C2D1D328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350CB-FDDB-4253-93EB-1116F8019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B42D10-6D0F-45C6-871C-54996E5FA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096F26-76FD-41BF-A46C-DFB27B242D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92A521-690E-465E-BEDB-FD1E7AD8EE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D255ED-5097-4CF8-80E1-90843154E4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5E9B44-E9F2-49A3-B5A6-E1610A2CE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5DA76-E139-4398-A51D-DD82A848E0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D7A758-17F3-45D6-BC5E-66BCDAF25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F7447B-5D01-4863-B8B7-5AB139D0A5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4EFE81-D0FA-4657-975D-37BA82A178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2853A4-B78E-4027-B432-B55C89163C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D3EC6-571D-4650-BDDE-99CAB4306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2D1BB3-F031-4E73-9BCA-E4BB04529B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0846B4-8E76-43EE-B445-3E7013B785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EFBED6-1475-4A59-8735-B9D194775D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7B56EB-CF94-4C3C-9C73-D3AF00EED0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91DEEA-16CE-43C3-A851-23D863289D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FBA267-5F1F-473A-B457-585F81C3F0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999790-768A-4D26-B94D-648FF5B657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E6FD1-07F9-48AE-B56E-635269FD19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BB7146-A8E1-43DF-8735-6635040FC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544BB0-A82D-4EA8-85D8-CCB1251AC12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73E82-D7A9-4F54-9287-4C584D68E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745B87-3C11-4C83-954F-31FFF9ADAB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609862F-E6C5-4A83-9DA7-40AF7CA3FE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0511DC-988D-4CE7-B32E-45844B2DAB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745A96-5413-489C-9106-A8309C3E91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6026F1-A963-471B-B7D5-876BAC8E24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504A51-497D-4131-A215-7B88C408FC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DF0231-DC88-42F7-8B9E-F700D2889F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608F1-927E-4C8D-A753-209B542D3F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78D0C6-3575-4A89-AD72-1AEE8A0C5F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8977EA-6A65-4445-ABA6-D412265785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47D36-2C85-49A3-9FEC-EA467D613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A2196D-F86A-43C3-B1CB-0A74755946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8E200B-920C-448B-B9B5-FE36900AF22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BB2F52-CBAF-4748-AFFE-090BC00A102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75322D-8565-41D1-B3BC-99D17635936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53D570-9C8D-431B-A74A-C67A3C5C7C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2B5BD5-2B78-4B2C-938E-CDC3632CF5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DDA035-604D-4227-93A0-5794CE0CB0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1417EC-34D7-4570-8FDC-703E07E569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90659D-9CF1-4FC0-9BA2-3EDFEA9C69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372D28-D5D2-4D83-92ED-5905542339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2607E-1F3D-4BBB-B138-79E37DDC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D80AB5-AB01-473B-B774-C2B3D8DD4E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0540D8-074D-4E81-A0FA-C2455E2342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752F78-54B7-46E6-92CA-5AA98F698E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8F7D0F-6299-4815-A563-BA01A9C86B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EF5330-F532-4E95-A5C5-CA78B3CD990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D2D1A3-AA0A-4D98-A155-3BD7CF4019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303B53-F3F5-43E9-BBCE-8B0A6B9299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31B0907-E9C0-4F33-98D6-99D99579C5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ECCE2B-7879-4DFE-9798-74AB72F0AA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81406E-10D1-4518-9908-1DEB30050E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DA8E2-7F9F-4712-9AA7-6B4154BA3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3E4791-DDDE-4F5D-97F5-B6045A5BFD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E49461-5EBF-4EB9-8858-B3595FA5A7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48CC2D-FE35-4CBF-A60F-3D32E638187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0E4805-7502-4D3D-B3E2-4B733489D8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253AB1-3836-45CC-B734-134386FF35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2FB3DCD-18A3-4F92-902C-D1B802BFA30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C60D963-DF14-4060-8CF7-2DBDB7A097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F212057-6A9C-4AF7-9B27-C2734566267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598F08-ADC6-49AA-8469-10C2B0C97F9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0CF9193-6068-4E91-9A1B-26AC754C95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45905-BA7C-41A0-879C-37C76EA64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A333F3-1B0E-4A54-8C67-E5607E3E77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204AE8-BDB7-439B-B3EB-4E8C93CB76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CD766A-99E9-4C1C-912A-EA9C579FE03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8EEC885-E121-4ED8-AE17-A77D4C613D9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971F53-F586-4D7A-B4F4-17209A31AB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E69483-9056-4748-B20B-75B1BCC10F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C0D1A6-8211-42DE-B55F-A675BC9180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35C81D0-9CF1-4F03-A992-7B8B58FC6D9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074086-6204-4E1B-B215-2B753AD417D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B92929F-47E3-4EDE-8E78-1172A57609F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71F0E-14F3-44A5-A636-F09AF962B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3510C7-B715-472C-B72D-CE3224FA199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4F3D1F2-94F6-4BB5-94DB-FFCA4CEFE2B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A84BE3-8595-44AA-97A5-E3FDD0F40D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A3DF00-E79E-4831-BD65-F61F227F12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CF5B4D-29B4-41FA-AAD6-16B48F9FC70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81E610-1726-47FB-BA47-584DFF49EB9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4F6D792-D923-4BF8-BA6B-5ED350377F5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EB2CEBD-0D75-4A71-97AB-69E730A007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EB7A6A-FF6D-45A0-9C05-9547BEEF87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01CC49B-861D-4DBA-B640-3AFD304F7D6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AB755-7653-446A-B2CE-EE9116DCB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65813FE-7AB7-42D7-AB91-F64DB65042A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938D351-38E0-49B0-94E8-7721E56D450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50A3D6-E96E-43EA-9596-EDA2BD894B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36C856-6E29-4FDD-AC8D-D2FADF07F08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1F7304E-06DF-460D-A26C-66A487F0799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23CBE2-32CE-4274-9DC3-1F1C7010DE8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53C256-0C0A-47BD-93FF-C34A680892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E6EAED-D4AD-4779-AC24-94F14929A9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C46998-9570-4FFB-A969-CB6E22E848F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510C6D-E0D9-4DFE-B021-2BFA62F6DD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703BF-6F56-4AB7-8796-72DD206BA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2166E8-560B-4E95-89D8-EAC6B3CAB8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55042A0-17FF-4F61-A495-8DAB3721195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488DE1B-1C92-4531-B2C0-3075878C64A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76AB2FC-C1A4-4DF4-9F96-95D7A347213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3099F30-5E07-4A25-9734-7A032BB774A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493FB1D-C575-4FBC-9F38-CCC83DDA03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8AC05F-2E5C-4809-B06A-DAE7FD64DE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493483-646C-4816-9186-1854D735EB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338F29-F4DD-4B7B-B282-1929BF3410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E87FE6-C370-4C7E-9810-A5D39271DA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136B-D463-4839-9D7A-A7A9A7409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C8D30-6AF9-40DB-A994-D530572EB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6959A4-C578-45B9-B961-2F858439A6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15216ED-92E7-4800-A7FF-509B66F7F1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1C95C17-EF19-4112-8F61-FA9AD4D657F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D53EE5-DF93-491B-B637-71268EB2F8B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C8C3862-90D7-4781-8B17-D56B3E4E5ED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1A954-E502-426E-9421-1B0A88CD3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50095-55CA-40F1-BE2E-9AFC98BE2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E5631-B8C9-47E8-B2FD-F4B09143B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6FCA3-A1D1-49DA-B963-FE57F7442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CC2622-06FA-470F-9A85-97E85716C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660B5-48FC-4492-9C5C-C1104DA318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FEC21-F8DA-46FF-A917-B79F249A8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44D06-A5C3-47E5-8117-0E9BA52C9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E63643-ED8E-45C6-AEE9-BE946DD407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CD9BE-DFD5-42A7-B3F8-EAF5D644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4B69B-FFA8-4618-9502-76738F722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901E7-2311-4DC8-B0C8-F5A775883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204EA-835D-4A19-B0EB-31F1030B0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82BD5-6CF8-4DBA-90A9-6B4C7871D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3CB40-F673-443B-9161-4A53DD81F1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072AB-00B1-47DC-B150-18E922996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02E100-DA54-4BAB-B09D-505148D305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9577E3-7D7C-4AFD-91A9-9C5E09C8BA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45CE3-7CB4-4544-B773-E7C9315BC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E568D8-2742-4049-B2A5-9DAFB30F1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AD0D9-9812-4BDD-B947-B13F8926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EFBB6-C1DF-4658-8C07-12DA90A76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3958F-D158-40BC-8960-303B4D4B77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F6095-68B5-4112-96C0-FFE1A8BF7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30204-ADFF-46AC-8269-DF24D74CB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D8C17-3597-406B-BCA6-1ECF18C5D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38D328-17A2-4DC8-A34F-73042050B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E0D8DF-9FC6-4687-9AAA-5DA1C9C69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C6BDDF-E710-4AD7-ABB7-9599A7B310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56121A-74D4-446D-9410-10F1519ED6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A4875D-2AB5-4569-AD29-60F66053BE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9E86E-D3FE-48A5-8FB9-5E3A4979E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614B5-B1A0-4C39-93D3-68E6874A7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7C7718-6E39-4C75-875F-550340ABDB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0DFDA-0E5C-43CA-B8F6-0917DC0631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D70E36-9A12-45CC-B3E1-CBD422BD4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06C1C-9DE2-4A59-AB66-44FFA35251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542A7-D3FD-413D-BB8E-95E642315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7EDBB-664C-470C-8764-FFCAA9173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95361-F6F8-406F-80C5-548A862E6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42039A-9EE8-4525-A5C8-33E4C36D6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62E9F-1DB6-4B12-91B1-8ABE1F4FFF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7990-ECA2-47C3-9E5B-4F6EE4817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54EE7F-DE8B-4C42-9A0F-2411CE2033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7984CD-00BC-47B1-841A-8CF73C3A70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6E3EF-F01D-4688-A2D0-76F512E67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19BA7-BED7-447E-A618-78621549EB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F2CFD-7179-42B1-8338-F7BDE62F95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841AD1-2859-4D50-8B72-ECF48A508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E1B7E5-4F7D-4636-8DC0-57C47445F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C2259-E6AE-49A6-BFF1-5D536513A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0FFF4-55ED-4BA1-9F2B-F02DA169D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A1343-DC07-4EDB-A854-40FEB77AF0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00E2-D942-49C0-AFCA-1F289574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0F2F52-13AF-48B2-AA89-1564FFE73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EFBEEE-4193-494F-9F2F-047C9540CB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AD58D1-8077-473D-B190-A831F9BB00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E8EE62-ECE1-4998-B736-EF0C239C7E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D71D5B-B9DE-4814-9B94-C2B47ABDD8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E27F8-7BA5-4406-BFE1-52CA9B137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B163A-47FF-4893-9FBB-C96C67B69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B3EAE-548B-4203-A6E6-3D3CFCB899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BD50AF-DB76-4300-860A-543640B4E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9883B-5B85-486E-A6A7-2B0748217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0DC8-A73E-479F-9B49-FF6D8E4F7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1E38E6-37EE-4430-AA12-731BAECD4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70DB81-D2E9-4B92-A95A-2FAA4EF40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148AF4-2194-40D2-80F2-39B21580D7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A8FFF0-88A3-491C-A480-786CFD7C99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076F42-3EB6-42C3-9349-0EC0CCA85C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002F4C-ADD4-4797-99D2-21B5AD26D8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5C4B9E-7502-428F-8D29-3BA63A9E22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FFBCC0-4F57-4AB0-A2A6-3C66E73227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E8E56B-C0D9-4D03-B5E3-514AAD8734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7F2BE-73A4-4BD3-B4A3-FEEAAA448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B0A1-DAF6-4793-8B40-B9B6D9A5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4D2D14-0D73-452E-A434-94481C3665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194220-01E2-475E-B38C-0680BE9D5D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87C59-5579-40AD-85F7-C2400054E6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6A52E-43F0-493C-969A-7211E9279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8260A8-9DF8-484B-A453-DDC97A2246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27EB8C-0986-46CE-B06A-D60ED4D9F0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71454E-074A-43B0-8BD7-F4D3D7577B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255F61-7CF0-4D95-92FF-2F5745D880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0069FA-7222-4D95-B93B-35EDC3688C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D74D58-F333-4A02-BE2F-AB545D96D2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F7B1F-9534-4D3F-8E59-F8691F08312F}"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EB5AF-C1D5-41C2-B129-4FF1A5685E9D}"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C9859-CEAF-4431-AA74-4BC97437EC3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2"/>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6E90C-040B-4FCB-AE92-CC054407C47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11481-1E94-41F1-9AB4-B16D7B46112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2"/>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DAA1F-103D-41C8-92AA-8BF74660302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AED3F-0AEB-4ACE-9EF5-45A36424A6E7}"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ABEAE-37FC-4CBE-865E-71CD03FDD8E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4498F-269F-4956-AF94-A00FF81EFB1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C18B5-9BF3-4F18-8BC0-0B25A74B0971}"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CF8BD-69AB-4BFE-871F-72123A7E230A}"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C3950-110C-4545-9B48-E3721B35893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D160D-7E5B-49D5-8EC8-9DAA4FB98AC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AF951-1E57-4348-8BA3-9566BF09138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E2375-FD15-48B9-A50F-415B5E2542A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E7095-E332-4270-BCED-12190A236C03}"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12607-53B7-4B23-99D0-F24638B2EE1B}"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Admin</cp:lastModifiedBy>
  <dcterms:modified xsi:type="dcterms:W3CDTF">2025-10-16T09:40:14Z</dcterms:modified>
  <cp:revision>58</cp:revision>
  <dc:subject/>
  <dc:title>Παρουσίαση του PowerPoint</dc:title>
</cp:coreProperties>
</file>